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3260-D049-46E3-ADAA-E68C8255F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yalemedicalgroup.org/stw/Page.asp?PageID=STW028984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this website of a medical illustrator on December 6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s from: http://drawbones.com/2009/01/dissection-of-the-kidney-kiwi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ommons.wikimedia.org/wiki/File:Kidney_structure_neutral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Image from :http://kcfac.kilgore.cc.tx.us/mobleypageap1/quizzes_and_downloads.htm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(Image from: http://www.medical-illustrations.ca/1010-kidney-nephron-diagram/)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Afferent Arrives…Efferent Exit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on previous slide from:  http://www.mountainside-medical.com/products/Urine-Specimen-Cup ,-Sterile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, NaCl, H+ ions, amino acid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produced 120 mL of urine a minut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your bladder’s stretch receptors signal to your brain when there is 200mL of urine;  can hold up to 600-8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tic gradient created by glucose, amino acids moves water back to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yperosmot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hyperton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ypoosmot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hypoton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soosmot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isoton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on next slide from: http://lifeinthefastlane.com/education/investigations-tests/urinalysis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healthcareguide4u.blogspot.com/2009/05/kidney-stones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s from: http://www.freeclinicproject.org/the-natural-way-of-passing-kidney-stones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nocturnaldialysis.org/LOWBP.LRG.htm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metrohealth.org/body.cfm?id=1452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cartoonstudio.co.uk/Pages/kmeters1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a (NH3) is highly tox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abeijo.com/39245025_human-excretory-system-fact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revolutionhealth.com/articles/blood-supply-to-the-kidneys/tp13026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CC89-74B5-4FE9-82CA-1792557C8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BECB-74AD-4937-B32A-80D12551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3503-5DCF-4E88-B43A-96F33FAA5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7BAF-E02B-4C48-94A8-ADC28C918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4177-4DA1-455D-9749-013C36E5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50D5-2935-4333-A778-1ABA45D7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2684-5FBC-45FB-81A5-AF32C3D1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71F0-DABC-468D-8941-B05082EE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E899-78F9-4610-9B35-74959F98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3623-13C1-46B4-BE61-E7DFBE10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86A5-9CB9-4E07-950D-370E2FA7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9768-E8C6-4786-B485-C2391DF9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E3F8-CB73-4448-A477-3AF837F53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pennmedicine.org/encyclopedia/em_DisplayAnimation.aspx?gcid=000136&amp;ptid=17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davisplus.fadavis.com/scanlon6e/Animations/animations.cfm?exercise=NephronFiltration&amp;title=Nephron%20Filtration" TargetMode="External"/><Relationship Id="rId2" Type="http://schemas.openxmlformats.org/officeDocument/2006/relationships/hyperlink" Target="http://davisplus.fadavis.com/scanlon6e/Animations/animations.cfm?exercise=NephronFiltration&amp;title=Nephron%20Filtration" TargetMode="External"/><Relationship Id="rId3" Type="http://schemas.openxmlformats.org/officeDocument/2006/relationships/hyperlink" Target="http://davisplus.fadavis.com/scanlon6e/Animations/animations.cfm?exercise=NephronFiltration&amp;title=Nephron%20Filtration" TargetMode="External"/><Relationship Id="rId4" Type="http://schemas.openxmlformats.org/officeDocument/2006/relationships/hyperlink" Target="http://davisplus.fadavis.com/scanlon6e/Animations/animations.cfm?exercise=NephronFiltration&amp;title=Nephron%20Filtration" TargetMode="External"/><Relationship Id="rId5" Type="http://schemas.openxmlformats.org/officeDocument/2006/relationships/hyperlink" Target="http://davisplus.fadavis.com/scanlon6e/Animations/animations.cfm?exercise=NephronFiltration&amp;title=Nephron%20Filtration" TargetMode="External"/><Relationship Id="rId6" Type="http://schemas.openxmlformats.org/officeDocument/2006/relationships/hyperlink" Target="http://davisplus.fadavis.com/scanlon6e/Animations/animations.cfm?exercise=NephronFiltration&amp;title=Nephron%20Filtration" TargetMode="External"/><Relationship Id="rId7" Type="http://schemas.openxmlformats.org/officeDocument/2006/relationships/hyperlink" Target="http://davisplus.fadavis.com/scanlon6e/Animations/animations.cfm?exercise=NephronFiltration&amp;title=Nephron%20Filtration" TargetMode="External"/><Relationship Id="rId8" Type="http://schemas.openxmlformats.org/officeDocument/2006/relationships/hyperlink" Target="http://davisplus.fadavis.com/scanlon6e/Animations/animations.cfm?exercise=NephronFiltration&amp;title=Nephron%20Filtration" TargetMode="External"/><Relationship Id="rId9" Type="http://schemas.openxmlformats.org/officeDocument/2006/relationships/hyperlink" Target="http://davisplus.fadavis.com/scanlon6e/Animations/animations.cfm?exercise=NephronFiltration&amp;title=Nephron%20Filtration" TargetMode="External"/><Relationship Id="rId10" Type="http://schemas.openxmlformats.org/officeDocument/2006/relationships/hyperlink" Target="http://davisplus.fadavis.com/scanlon6e/Animations/animations.cfm?exercise=NephronFiltration&amp;title=Nephron%20Filtration" TargetMode="External"/><Relationship Id="rId11" Type="http://schemas.openxmlformats.org/officeDocument/2006/relationships/hyperlink" Target="http://davisplus.fadavis.com/scanlon6e/Animations/animations.cfm?exercise=NephronFiltration&amp;title=Nephron%20Filtration" TargetMode="External"/><Relationship Id="rId12" Type="http://schemas.openxmlformats.org/officeDocument/2006/relationships/hyperlink" Target="http://bcs.whfreeman.com/thelifewire/content/chp51/51020.html" TargetMode="External"/><Relationship Id="rId1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khanacademy.org/video/the-kidney-and-nephron?playlist=Biology" TargetMode="External"/><Relationship Id="rId2" Type="http://schemas.openxmlformats.org/officeDocument/2006/relationships/hyperlink" Target="http://www.khanacademy.org/video/the-kidney-and-nephron?playlist=Biology" TargetMode="External"/><Relationship Id="rId3" Type="http://schemas.openxmlformats.org/officeDocument/2006/relationships/hyperlink" Target="http://www.khanacademy.org/video/the-kidney-and-nephron?playlist=Biology" TargetMode="External"/><Relationship Id="rId4" Type="http://schemas.openxmlformats.org/officeDocument/2006/relationships/hyperlink" Target="http://www.khanacademy.org/video/the-kidney-and-nephron?playlist=Biology" TargetMode="External"/><Relationship Id="rId5" Type="http://schemas.openxmlformats.org/officeDocument/2006/relationships/hyperlink" Target="http://www.khanacademy.org/video/the-kidney-and-nephron?playlist=Biology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TXRcbjuYGU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Balance &amp; Excre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4 &amp; 9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Urina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dneys can hold up to 25% of the body’s blood at a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dneys filter the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ine (with wastes and toxins) is conducted to the bladder through the u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dney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t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u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al pelv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48320" y="2147760"/>
            <a:ext cx="380988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dney Kiw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029040" y="1981080"/>
            <a:ext cx="3085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dney Kiwi Diss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ph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unctional unit of the kidney i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ph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about 1 million nephrons in each kid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552680" y="609480"/>
            <a:ext cx="6037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Kidney Structur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85800" y="934920"/>
            <a:ext cx="7772400" cy="48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482920" y="609480"/>
            <a:ext cx="4176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201680" y="609480"/>
            <a:ext cx="6740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mo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 regulation of the osmotic pressure of bodily fluids an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smotic pressu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ressure resulting from a difference in solute concentration across a selectively permeable mem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751040" y="609480"/>
            <a:ext cx="5641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s urine form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ine 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l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re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overview of urine 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ennmedicine.org/encyclopedia/em_DisplayAnimation.aspx?gcid=000136&amp;ptid=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blood pressure in glomer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, ions, smaller dissolved molecules (glucose, amino acids, urea) can move through the walls of the glomer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kidneys filter your entire blood plasm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6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imes every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bsor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on pump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absorb 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ct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tive transport protei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absorb amino acids, gluc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trate becomes hypoosmotic to interstitial fluid, so water is reabsorb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smo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throug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quapor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t of reabsorption occurs in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ximal convoluted tub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trate with high concentration of urea and other wastes enter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op of Henl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stal convoluted tubu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water and ions (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are reabsor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(cont’d)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llecting duc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permeable to water but not salt ions, so more water is reabsor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bottom of medulla, urea is reabsorbed through passive urea transporters (increasing concentration gradient…more water reabsorb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re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ons (active) to adjust blood pH (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lso reabsorbed to bal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of detoxified poisons (pass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-soluble drugs (pass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ogen-containing wastes (such as small amounts of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xim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stal convoluted tub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rrated animation on urine formation; good amount of detail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//davisplus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adavis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com/scanlon6e/Animations/animations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cfm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?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exercise=NephronFiltration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&amp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title=Nephron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%20Fil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rrated animation of structure &amp; function;  quite detaile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bcs.whfreeman.com/thelifewire/content/chp51/51020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link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han academy…this video starts off with the structure of the kidney &amp; nephron, then goes into detail about the formation of urine (covered in 9.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khanacademy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org/video/the-kidney-and-nephron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?playlist=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mo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erosmo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oosmo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oosmo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dney Disor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i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used to detect many metabolic and kidney disorders as well as urinary tract inf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ine can be assessed using a dipstick or at a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Test Dipst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009880" y="1981080"/>
            <a:ext cx="5122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betes Melli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1 - body cannot produce insu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2 - cells fail to use insulin prope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stational - hormones of pregnancy interfere with action of insu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inalysis would show high levels of glucose (and greater volumes of ur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dney St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d by precipitation of minerals, can be alkaline or acid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pain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48320" y="2603520"/>
            <a:ext cx="380988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dney Stones - 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hotripsy (shock-wave therap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eteroscopy (and placement of stent or surgical removal of st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low-functioning kidneys, dialysis machine can filter 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48320" y="2687760"/>
            <a:ext cx="380988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013200" y="609480"/>
            <a:ext cx="3117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cellular Org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balance is often maintained b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ractile vacu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eo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rameci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mTXRcbjuY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re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ing waste is important for all living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24200" y="3124080"/>
            <a:ext cx="51418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Wa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s are eliminated through various orga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ngs (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intestine (solid was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r (transforms toxins for remov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dneys (soluble was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trogenous Was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ly from de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ls that live in water can remov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mmon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lots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mmals, some reptiles, most amphibians form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ds and some invertebrates produc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r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Excreto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al Blood Fl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is brought to the kidneys by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t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ed blood leaves the kidneys through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48320" y="2795760"/>
            <a:ext cx="380988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1:19:22Z</dcterms:created>
  <dc:creator>rubina khan</dc:creator>
  <dc:description/>
  <dc:language>en-US</dc:language>
  <cp:lastModifiedBy>rubina khan</cp:lastModifiedBy>
  <dcterms:modified xsi:type="dcterms:W3CDTF">2013-05-16T12:49:37Z</dcterms:modified>
  <cp:revision>228</cp:revision>
  <dc:subject/>
  <dc:title>Maintaining An Internal Balance</dc:title>
</cp:coreProperties>
</file>